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BB9-9AE8-4934-B476-09C92F4D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426-5C0B-4997-AD0B-EEDC59A7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58A-7E17-47AA-95DC-94CFE319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B2F-5D6D-4C84-B7F2-580A5803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18E-FD31-4F90-9C1A-35FD78A6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62C-394D-4BB3-8BF3-87805E7C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092-83EC-4967-B1BB-8CB12EFC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30E-85B5-4B79-972A-8BCB1363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58E-B2FD-4169-9EC8-AD3017DE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4A2-EF8D-4DAC-A65E-943B5012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A5E-C02B-4032-B65C-4A87BD8D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8E3-B19A-4B20-92FD-00C40EA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83CE-E27E-44EF-B26B-172038F2A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me.com/news/mia/56280/photo/7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94040" y="0"/>
            <a:ext cx="458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08064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3255840" cy="499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MIA4-Ravi Thiagaraja"/>
          <p:cNvPicPr/>
          <p:nvPr/>
        </p:nvPicPr>
        <p:blipFill>
          <a:blip r:embed="rId2"/>
          <a:stretch/>
        </p:blipFill>
        <p:spPr>
          <a:xfrm>
            <a:off x="5148360" y="1052640"/>
            <a:ext cx="33494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9884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98640" y="189000"/>
            <a:ext cx="5288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3640" y="160200"/>
            <a:ext cx="51516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64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0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3756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988480" cy="59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Photo: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0"/>
            <a:ext cx="559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37:16Z</dcterms:created>
  <dc:creator>Administrator</dc:creator>
  <dc:description/>
  <dc:language>en-US</dc:language>
  <cp:lastModifiedBy>Administrator</cp:lastModifiedBy>
  <dcterms:modified xsi:type="dcterms:W3CDTF">2011-05-16T16:10:14Z</dcterms:modified>
  <cp:revision>3</cp:revision>
  <dc:subject/>
  <dc:title>Slide 1</dc:title>
</cp:coreProperties>
</file>